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8AF6-5099-46C6-84D2-1C59DAA3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CF1-4F28-4331-A6D8-0168B71F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AFB-2D95-4BBC-91B2-F2CBCF10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301F-2FC4-4886-92E7-39552BA2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A37F-F077-46E1-BDF4-009F35AF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E52C-7E99-4127-9D50-612FB2E4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86EF-3636-4EEB-80D5-DE61BD7B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7924-A06F-492A-BBF6-05AF2076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645E-5DC2-410F-B0E8-8D737297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561C-2047-4390-BF89-719B3D8C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6CB9-51D0-4C2C-A366-ED03A4F3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5AE4-F78B-426F-ADCB-3A6B6FDC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B742-69F2-4BAD-BC74-8B7C8CD8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E971-906C-4A53-8573-4B45F7B5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BE8D-9A0C-492E-AAFE-0EB48F28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04E4-0380-47FE-B561-3D9B7D8E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A823-337A-4F7E-9431-C7651D30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3836E-414A-450C-859E-4787B8E0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B4F40-5774-459F-8AF5-A493CEA2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89510-9467-442F-A7C3-6C47A2A9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43160-21B9-4537-B4FA-3694850C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FCC28-F30C-4A37-AF01-7864CCC3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B5F-F49D-4075-8297-A8CE0ABE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8956A-0C8D-4344-93FD-8AB88CDA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B0C4F-5B6B-4079-A73E-1455C331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2F710-E226-460C-B86F-99B28D29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B7DD8-0AAB-4A35-9DCA-AFE41B76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EC2E-F4F4-4E73-B0E2-CEF25264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2EB68-231A-470C-B0DF-905E1789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6B043-7884-4FF8-85CB-6AA0912E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39AEF-CABC-4A79-A5C7-CB444A13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F7F07-29D1-48AE-92D2-D1A4A668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AA961-F5E7-4C74-ABE5-C61ED094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9B3-6EBE-4EF7-A86E-C69F3D10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80BB9-7864-4614-8910-AA9A22BE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253E4-6812-4D1F-B44A-E982CC5B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1E1F2-9B47-4906-99F9-1FFAC11C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1468B-D9CF-409E-987B-FC8967DA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4D8CA-0E3C-4680-A6A9-7C01340B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C4055-77C6-407D-B7A5-D977E49B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BE700-0A1D-4334-AF48-AFF4E2F0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084F1-05F6-4A70-AB46-917A6B78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CDFF4-4700-42F3-848C-C2E1DF08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2D072-7E04-482F-880D-DD1F579F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B493-8482-4070-8DA2-3EE7391F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39834-C234-4FF6-B3A5-90B3F8F9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6213E-BE73-40ED-A6E4-6E14361C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A0B1E-C6CE-4555-AF82-42B2B834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5E389-D91A-4B95-AC1C-959FB192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6F9DD-6661-4263-9F26-0E1B064C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64608-8276-4596-978F-76A87264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07F06-EABA-4741-ADE4-B0F2905D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7EEEF-4E35-4032-A135-938E4E64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B8291-7530-4DF1-9432-3B36F20B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ACF56-FB29-45E9-A485-286AF8F5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E18-EEB3-4912-8522-27567FEA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4DDC3-C12C-4B2C-8EC7-A0728313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1054D-5138-4AED-A1FD-D6BFEB27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032B2-010E-4279-9245-F5043CAF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ECAFB-F73A-4AA2-BC0F-6AD3FDD0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002BB-A0F2-45A5-B541-BC238362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EA41F-5EB6-4B45-8B9A-4953B98F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20F00-272B-4789-B394-6F223B8F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3611B-C819-4B16-B097-918E9EA8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A2B74-15ED-460F-8DB5-B46A8FDD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B07DB-3262-461C-833A-D6BAC0E9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C5E-4013-4D0E-91F5-C55135A8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38C79-E8F7-464C-BB82-5C97B609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F1B05-E311-4FCA-8BBA-EC58716C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AC18D-8F05-4B14-93CB-EEE3E483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022-64BA-49DF-A798-E4D1BE0B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34E-808D-4B33-AF41-3615B318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E205-A362-402C-B874-61583806521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C850-33E7-4186-AE03-177FFFE2EA9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5FBC-777B-40AF-9A38-2B78660CD91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A473-9F9C-4D87-9DD8-99A3B827650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BDC0-CA09-4980-87B8-6BAFCA85E2F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82BD-D063-42C6-B66E-9B8C2F63ED1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istory_of_programming_languages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1212840" y="384120"/>
            <a:ext cx="7113600" cy="31942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90720" y="373392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ogieBoogie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OogieBoogie"/>
              </a:rPr>
              <a:t>and an analysis of basic programming (v 0.102.23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1950s &amp; 60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1950s saw the rise of the first modern programming languages, many of whose descendants are still used to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d-50s saw the publication of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LGOL 60 Rep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hich consolidated all the programming ideas circulating at the time, and introduced two key language concep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sted block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xical sco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1950s &amp; 60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ckus-Naur Form (BNF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mathematically exact notation for language syntax that was introduced in the late 50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al-addres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-par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eet-addres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ip-par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-par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al-par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t-nam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-jr-par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al-par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-par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al-par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-nam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".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eet-addres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use-nu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eet-nam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-apt-nu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ip-par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wn-nam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","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-cod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IP-cod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-jr-par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"Sr."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"Jr."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man-numer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"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1950s &amp; 60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LGOL 68 was a further attempt to redefine programming languages, but was deemed too difficul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mpts to simplify it resulted in the Pascal langu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Other important languages developed in this time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TRAN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ator) (195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P (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cessor) (195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BOL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mo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es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ente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guage) (195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ula (196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ginner’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l-purpos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mboli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structio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e) (19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gramming Paradig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gramming paradigms are the fundamental styles used in programm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digms differ in the concepts and abstractions used to represent elements of a program and steps that compose a comput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9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BOL and FORTRAN among others, ar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dural languag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meaning the programs are built from various functions or subroutines. These type of languages use vocabulary relative to the problem being sol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9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pposite of procedural programming i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larative programm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where the computer is told what the problem is, not how to solve a problem.  Logic-based programming languages like Prolog are declarative in na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gramming Paradig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re programming paradig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mperative programming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al with statements that alter a program stat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bject-oriented programming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data and methods of manipulating the data, are kept as a single unit called an object.  This prevents the data from being manipulated by anything other than the object’s method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1950s &amp; 60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ce Hopp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906 –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computer scientist and US Naval Offi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ne of the first programmers for the Harvard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rk I compu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ed the first compiler for a programming langu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ualized and developed COBOL, one of the first modern programming languag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pularized the term “debugging”, after removing an actual moth from a comput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ferred to as “Amazing Grace” in the Nav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U.S. Naval Destroye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USS Hoppe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s named for h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3" descr="GraceHopper.jpg"/>
          <p:cNvPicPr/>
          <p:nvPr/>
        </p:nvPicPr>
        <p:blipFill>
          <a:blip r:embed="rId1"/>
          <a:stretch/>
        </p:blipFill>
        <p:spPr>
          <a:xfrm>
            <a:off x="7391520" y="1523880"/>
            <a:ext cx="157320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Late 60s &amp; 70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w programming languages began to bloom in the late 60s, introducing even more new language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scal (1970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 (197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malltalk (197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log (197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L (1973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QL (197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time saw the introduction and debate of “structured programming”, which basically meant programming without the use of the GOTO state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1980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focus on programming for large-scale system through us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nguages Modula, Ada, and ML all developed notable module systems in the 80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80s saw the movement towards RISC design in CP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basically meant that hardware should be designed for compilers rather than for assembly programm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1980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ortant languages developed in the 1980s included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a (1983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++ (1983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iffel (198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rlang (1986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l (1987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1990s and Beyond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90s saw the rise of RAD (Rapid Application Development) langua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D languages usually included an IDE, garbage collection, and were usually descended from older languag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of RAD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 Pa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ual Basic (199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# (2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grams are Everywhere!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our compu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our cellph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our microwa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our toas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t some level, almost all electronic devices have some type of programming that tell the different components how to interact with one anothe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1990s and Beyond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ortant languages developed in this tim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skell (1990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ython (1991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ava (1991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uby (1993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ua (1993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avaScript (199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P (199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# (2000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1990s and Beyond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90s also saw the rising popularity of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scripting languag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cripting languages allow control of one or more software applica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49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ipts” are distinct from the core code of the main application, and can often be created or modified by the end-us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49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ipting languages, unlike other high-level programming languages, do not need to be compil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49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 referred to as “batch languages” or “job control language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49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rn web browsers are a good exa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425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or example, Firefox is written in C/C++, and can be controlled via JavaScript and/or PHP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2000 and Beyon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volution continues!  Several new trends in this decade includ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taprogramm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writing of programs that write or manipulate other programs (or themselves) as their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gration with relational databases and/or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(Extensible Markup Languag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mainstream support for Unicode vs. the ASCII character s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5" name="Content Placeholder 3" descr="assembler.jpg"/>
          <p:cNvPicPr/>
          <p:nvPr/>
        </p:nvPicPr>
        <p:blipFill>
          <a:blip r:embed="rId1"/>
          <a:stretch/>
        </p:blipFill>
        <p:spPr>
          <a:xfrm>
            <a:off x="1428840" y="1919160"/>
            <a:ext cx="5524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ir most basic, programs are simply functions, or a collection of various variable assignments and executions of simple math-type stat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oid main()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{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print “Hello, world”;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s is a simple “Hello world” program, that simply prints the message “Hello, world” to the scree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onal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s expressed in most languages as &amp;&amp;, also called “logical conjunc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is expressed in most languages as ||, also called “logical disjunc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“ refers to assigning a value, while “==“ tests for equ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 some languages, “===“ signifies a test for equality in both value and data typ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!=“ or “&lt;&gt;” means not equal, and most other numerical relational operators a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 example, “&lt;“, “&gt;”, “&gt;=“, “&lt;=“ all mean the same thing in programming as they do in mathematic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trol Flo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are various statements used in programs to control how the flow through a program is executed, known as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trol flow stat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programs need keywords to indicate the type of control structure in use, to group various statements toge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gin … 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ntation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Flow continu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oops are sequences of statements specified once, but carried out several times in success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76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 loop that calls itself in the course of its execution is said to be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recursive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.  Poorly written recursive loops can lead to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infinite loops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, which are bad (usually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326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 simple recursive function: factorials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Lucida Console"/>
              </a:rPr>
              <a:t>function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 factorial is: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Lucida Console"/>
              </a:rPr>
              <a:t>input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: integer </a:t>
            </a:r>
            <a:r>
              <a:rPr b="0" i="1" lang="en-US" sz="1300" spc="-1" strike="noStrike">
                <a:solidFill>
                  <a:srgbClr val="ffffff"/>
                </a:solidFill>
                <a:latin typeface="Lucida Console"/>
              </a:rPr>
              <a:t>n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 such that </a:t>
            </a:r>
            <a:r>
              <a:rPr b="0" i="1" lang="en-US" sz="1300" spc="-1" strike="noStrike">
                <a:solidFill>
                  <a:srgbClr val="ffffff"/>
                </a:solidFill>
                <a:latin typeface="Lucida Console"/>
              </a:rPr>
              <a:t>n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 &gt;= 0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Lucida Console"/>
              </a:rPr>
              <a:t>output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: [</a:t>
            </a:r>
            <a:r>
              <a:rPr b="0" i="1" lang="en-US" sz="1300" spc="-1" strike="noStrike">
                <a:solidFill>
                  <a:srgbClr val="ffffff"/>
                </a:solidFill>
                <a:latin typeface="Lucida Console"/>
              </a:rPr>
              <a:t>n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 × (</a:t>
            </a:r>
            <a:r>
              <a:rPr b="0" i="1" lang="en-US" sz="1300" spc="-1" strike="noStrike">
                <a:solidFill>
                  <a:srgbClr val="ffffff"/>
                </a:solidFill>
                <a:latin typeface="Lucida Console"/>
              </a:rPr>
              <a:t>n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-1) × (</a:t>
            </a:r>
            <a:r>
              <a:rPr b="0" i="1" lang="en-US" sz="1300" spc="-1" strike="noStrike">
                <a:solidFill>
                  <a:srgbClr val="ffffff"/>
                </a:solidFill>
                <a:latin typeface="Lucida Console"/>
              </a:rPr>
              <a:t>n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-2) × … × 1] 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1. if </a:t>
            </a:r>
            <a:r>
              <a:rPr b="0" i="1" lang="en-US" sz="1300" spc="-1" strike="noStrike">
                <a:solidFill>
                  <a:srgbClr val="ffffff"/>
                </a:solidFill>
                <a:latin typeface="Lucida Console"/>
              </a:rPr>
              <a:t>n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 is 0, </a:t>
            </a:r>
            <a:r>
              <a:rPr b="1" lang="en-US" sz="1300" spc="-1" strike="noStrike">
                <a:solidFill>
                  <a:srgbClr val="ffffff"/>
                </a:solidFill>
                <a:latin typeface="Lucida Console"/>
              </a:rPr>
              <a:t>return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 1 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2. otherwise, </a:t>
            </a:r>
            <a:r>
              <a:rPr b="1" lang="en-US" sz="1300" spc="-1" strike="noStrike">
                <a:solidFill>
                  <a:srgbClr val="ffffff"/>
                </a:solidFill>
                <a:latin typeface="Lucida Console"/>
              </a:rPr>
              <a:t>return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 [ </a:t>
            </a:r>
            <a:r>
              <a:rPr b="0" i="1" lang="en-US" sz="1300" spc="-1" strike="noStrike">
                <a:solidFill>
                  <a:srgbClr val="ffffff"/>
                </a:solidFill>
                <a:latin typeface="Lucida Console"/>
              </a:rPr>
              <a:t>n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 × factorial(</a:t>
            </a:r>
            <a:r>
              <a:rPr b="0" i="1" lang="en-US" sz="1300" spc="-1" strike="noStrike">
                <a:solidFill>
                  <a:srgbClr val="ffffff"/>
                </a:solidFill>
                <a:latin typeface="Lucida Console"/>
              </a:rPr>
              <a:t>n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-1) ] 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Lucida Console"/>
              </a:rPr>
              <a:t>end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 factorial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ypes of loop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nt controlled loo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e x amount of times before procee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f these use a loop counter to keep track of the number of times the loop has been execu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oops most common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dition controlled loo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types of loops repeat until a certain predefined condition has chan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oops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-wh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o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4" dur="5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ypes of loo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lection-controlled loo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languages have constructs which allow looping through all elements of an array, or all members of a set or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e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o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languages allow for non-local control flow in the form of conditions and except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Jacquard.jpg"/>
          <p:cNvPicPr/>
          <p:nvPr/>
        </p:nvPicPr>
        <p:blipFill>
          <a:blip r:embed="rId1"/>
          <a:stretch/>
        </p:blipFill>
        <p:spPr>
          <a:xfrm>
            <a:off x="6858000" y="152280"/>
            <a:ext cx="2057400" cy="27511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Before 1940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“first” program actual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ates the first modern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Jacquard Loom, in 1801, us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es punched in cards to represent the movement of the sewing loom a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 Lovelace, in 1843, while translating Luigi Menabrea’s memoirs on Charles Babbage’s Analytical Engine, added a series of notes which detailed a method of calculating Bernoulli numbers with the Analytical Eng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real program written for a real computer is credited to Grace Hopper, written for the Harvard Mark I computer in 194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al stat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al statements perform specific actions and computations depending on whether or not a specified Boolean condition evaluates to TRUE or FAL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-Then-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ne of the most common conditional statements.  While the syntax can vary from one language to the next, the basic structure remains the s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(condition) then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statements)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s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statements)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ditional state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se If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s an addition to If-Then-Else statements, allowing multiple conditions to be tested at o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rnary operator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work similar to If-Then-Else statements, but in a shorthand kind of 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dition) ? (TRUE statement) : (FALSE 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ditional state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se/Switch statement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compare a given value with specified constants and take action according to the first mat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 (someCharacter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ase ‘a’: performActionA; break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ase ‘b’: performActionB; break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ase ‘c’: break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default : performActionC; break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different types of data can be manipulated in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ta types provided are referred to as “primitive data types”, meaning they’re defined and provided by the programming language itself, as opposed to user defined data ty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eg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loating point (decimal value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476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loating point calculations in programming can be rather resource-intensive in some case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ar (single characte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ta Types continu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ven more data typ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ome languages, a Boolean data type exists.  Usually, it just an integer with a value of either 0 or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ome languages, strings can be treated as character arrays, and manipulated like array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thers, strings have special library-defined functions for handling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ta types continu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ven MORE data type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ays are sets of values in a program that can be selected by ind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foo = (0, 2, 3, 4, 5, 2, 10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print foo[1]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uld yield the result of “2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working with arrays, it’s important to remember that counting begins with “0” in most langua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utting It All Togethe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simple program that prints out the numbers from 1 to 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void main(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  int x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  for(x = 1; x &lt; 11; x++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    print x + “\n”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  return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ferenc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mmet, Jean E. (1969)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rogramming Languages: History and Fundamental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Englewood Cliffs, NJ: Prentice-Hall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tory of Programming Languages.(n.d.). In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ikipedi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 Retrieved November 2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2009, from </a:t>
            </a:r>
            <a:r>
              <a:rPr b="0" lang="en-US" sz="14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en.wikipedia.org/wiki/History_of_programming_languag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lerer, Melvin. (1991).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Design of Very High-Level Computer Languag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USA: McGraw-Hil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rgin, Thomas J. &amp; Gibson, Richard G. (1996).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History of Programming Languag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 New York, NY: ACM Pres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ffman, Elliot B. &amp; Friedman, Frank L. (1993)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Fortran With Engineering Applications: 5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Editio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 Reading, MA: Addison-Wesley Publishing Compan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ari, Peggy. "Science And Invention - Who Wrote The First Computer Program?." 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istory Fact Find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Ed. Julie L. Carnagie. UXL-GALE, 2001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Notes.com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2006. 6 Dec, 2009 &lt;http://www.enotes.com/history-fact-finder/science-invention/who-wrote-first-computer-program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babbage.jpg"/>
          <p:cNvPicPr/>
          <p:nvPr/>
        </p:nvPicPr>
        <p:blipFill>
          <a:blip r:embed="rId1"/>
          <a:stretch/>
        </p:blipFill>
        <p:spPr>
          <a:xfrm>
            <a:off x="6818400" y="1752480"/>
            <a:ext cx="2147760" cy="26672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Before 1940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rles Babbag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791 – 187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lish mathematician, philosopher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or, and mechanical engin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rst to originate the concept of a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grammable comput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ught a method to calculate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thematical tables mechanically to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move the high rate of human erro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ived of and designed the Differenc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gine, then the Analytical Engine.  Neither were actually created in his lifetim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Difference Engine was built based upon his work, in 1991.  On display in the London Science Museu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Before 1940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da Lovelac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1815 – 1852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“first” programm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nly legitimate child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et Lord Byr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y claim to fame is hav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ten a description of Charl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bbage’s Analytical Eng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gramming language, Ada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for the United States Department of Defense, was named in her hon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3" descr="ada_lovelace.jpg"/>
          <p:cNvPicPr/>
          <p:nvPr/>
        </p:nvPicPr>
        <p:blipFill>
          <a:blip r:embed="rId1"/>
          <a:stretch/>
        </p:blipFill>
        <p:spPr>
          <a:xfrm>
            <a:off x="6400800" y="1447920"/>
            <a:ext cx="25401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Before 1940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lan Turing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1912 – 1954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glish mathematician, logician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yptanalyst, and computer scientis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of the fathers of computer sc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d a formalization of the concep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algorithm and computation with the Turing mach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e up with the “Turing Test”, a proposal for a test of artificial intelligence in mach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3" descr="alan_turing.jpg"/>
          <p:cNvPicPr/>
          <p:nvPr/>
        </p:nvPicPr>
        <p:blipFill>
          <a:blip r:embed="rId1"/>
          <a:stretch/>
        </p:blipFill>
        <p:spPr>
          <a:xfrm>
            <a:off x="6858000" y="1295280"/>
            <a:ext cx="209880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herman_hollerith.jpg"/>
          <p:cNvPicPr/>
          <p:nvPr/>
        </p:nvPicPr>
        <p:blipFill>
          <a:blip r:embed="rId1"/>
          <a:stretch/>
        </p:blipFill>
        <p:spPr>
          <a:xfrm>
            <a:off x="6858000" y="1600200"/>
            <a:ext cx="2143080" cy="30862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Before 1940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man Hollerit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860 – 192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man-American statistic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ed a mechanical tabulator to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apidly tabulate data from millions of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unch car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is electric tabulating system was used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 tabulate the 1890 census in only on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yea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is firm, along with four other companies, merged to form the Computing Tabulating Recording Corporation, which was later renamed to International Business Machines (IB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1940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1940s saw the rise of the first recognizably modern, electrically powered compu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arly computers required hand tuned assembly language programs to r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ENIAC (Electronic Numerical Integrator And Computer) was the first general-purpose electronic computer, in 1946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 languages developed at this tim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ankalkül (1943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IAC coding system (1943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-10 (194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ypes of Programming Language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ming languages can be broken down into three general typ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chine langu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set of instructions and data directly read by a CPU.  High and low level languages are interpreted into machine language for computers to re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ow-level languag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fer little or no abstraction from a computer’s instruction set archite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igh-level languag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er strong abstraction from the details of the computer, some even including natural language elements.  Meant to be more user-friendly and easier to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4:08:51Z</dcterms:created>
  <dc:creator>Eddie Fuller</dc:creator>
  <dc:description/>
  <dc:language>en-US</dc:language>
  <cp:lastModifiedBy>Eddie Fuller</cp:lastModifiedBy>
  <dcterms:modified xsi:type="dcterms:W3CDTF">2009-12-09T02:46:30Z</dcterms:modified>
  <cp:revision>174</cp:revision>
  <dc:subject/>
  <dc:title>The History &amp; Evolution of Computer Programming</dc:title>
</cp:coreProperties>
</file>