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B2F-A53C-4E0E-8F05-BC188678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8CF-C9BD-4324-8FAB-547E39FB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8EB-6821-4A3D-AF82-E0C6EC38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D36-39F7-4E63-BEBE-82F992DE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4ECB-7BE0-44DF-A5D5-45BFAFE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9B52-B07B-482A-8161-0F5206E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EE2-9446-406C-ACAD-A75CA330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CB72-C0E5-413D-8BA7-8ED4B2D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6FE-7E45-4EB4-9C40-00BA2DA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B947-474E-4A79-91F3-ADA5926A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7B4-5FAD-4F5E-AFFD-6A8E780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58D-EA5E-4724-A6F2-792746C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37A-A5F8-41A7-BC49-6C5387D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7B7-8A53-4D13-98D9-FD2B20A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528-9E4D-4749-9DDB-49690C4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A10-7026-4A48-B3C9-B8D0910F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F8DA-D87F-483E-9487-F679AC3F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606E-79C2-49CE-8CF8-D62B4F3A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EBFE-2DE0-40F8-951F-298D20E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2225-55F7-43A6-9C54-EC45EAE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9B27-A583-450A-B9D8-E736E8A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005F-7F87-497B-9254-B8844334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30F-6F68-41E0-9870-7E4BEF1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33EF-D78A-4C00-9A36-3A12FB4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0238-59B7-442F-BF1E-4C0268D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EA28-4179-491E-89ED-B353C7E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9887-7417-4F0C-BE59-FDD8CF8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F952-7A90-4DDA-9E5F-EB7C745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1CB2-C25B-4ACD-B8C8-001354C0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2F47-8358-4231-9294-274F2EB2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3F1D-70E1-45A1-8955-1A119DCB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FF0F-9B70-49DC-BB1B-114DB33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D441-EAFE-4F63-B469-DD12C393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13A-32AB-4FE3-9CAA-9AF742F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90DE-8893-4CF4-8934-3BA6D614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3F97-7234-4E06-8426-F621230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C2F4-6887-4B4A-B4B8-F1CF0EE0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F547-9606-4C10-B48C-BD304CA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EA8C-BD07-4EDA-9A9F-39E2DAB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8988-246A-4210-BF2B-6DC15A9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95A9-8551-4670-B94C-DE0766E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E7A3-EC81-4907-9580-EC6BA278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37D2-4B44-4049-B670-13F3FA96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88D7-7047-4BF2-A504-A18C9552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885-3B31-431C-BB16-6A5CEBA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F1B9-4B29-425F-B01C-1D17A88E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C47C-EACF-42CD-A3AD-403940F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7EDA-72F7-4DA3-A2A5-DFA27B2B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EFF5-06D1-40EB-860E-C10F7F7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3F7C0-A367-4AB5-B21A-BFE2A54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57D54-15AA-4F71-82C9-6F2EF00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8133-C74E-47F3-90E0-39FE105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DF4F-1B05-4C83-9FE4-AA26FAD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B7FA-226F-47B5-84B9-6F4F672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A8DA-9D5D-4BB7-B77F-18B5DCD3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98B-F73B-4CEF-9251-2BDF48A6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39BC-C100-468A-863E-C48DE351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E31C-3AE6-4FD1-9162-5F1584A2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0DA1-39A9-4456-ADE4-0FA8170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F05C-3A47-4E17-97B3-A7B8324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8149-4580-4C32-A5D9-C54165B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F237-A762-4E86-8C6F-5A7DC98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B918-67C3-4385-94CD-BEBEB14C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4695-AFCB-4E7A-A509-235CC0E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B8258-3949-4CD4-AE48-DDB6FE9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879C-8B2C-4CC1-B4C7-8874BD3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EC7-293A-4AF7-89D9-92E3865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0585-B014-451B-93F0-A95487C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547D-22E2-4D3A-8EEC-63EA148A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3B65-4B2A-4AEE-97E6-0FF61596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B76-7239-417E-AEC1-479D4AA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830-625D-4459-BE7B-65120BA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9E2-6E4F-4990-A8A1-ECA85482FBB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792-0AAB-4586-B799-90684FF9CB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3035-9613-4CE2-9D9D-A52FBF2127C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688-94A2-41AB-9257-02E6220ED2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F3D-D707-4D2F-9F86-7512C6335A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4EE-CC97-44D7-9D16-7A41FBE413D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istory_of_programming_language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212840" y="384120"/>
            <a:ext cx="7113600" cy="3194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ogieBoogie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OogieBoogie"/>
              </a:rPr>
              <a:t>and an analysis of basic programming (v 0.102.2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950s saw the rise of the first modern programming languages, many of whose descendants are still used to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d-50s saw the publication of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GOL 60 Re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consolidated all the programming ideas circulating at the time, and introduced two key language concep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block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sco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ckus-Naur Form (BNF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athematically exact notation for language syntax that was introduced in the late 50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jr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addres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-nu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et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apt-nu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n-na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,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-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-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-jr-p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Sr.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Jr.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man-numer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"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GOL 68 was a further attempt to redefine programming languages, but was deemed too difficul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implify it resulted in the Pascal langu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ther important languages developed in this tim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TRAN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tor) (195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P (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cessor) (195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BOL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es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en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uage) (195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 (196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inner’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l-purpo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mboli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truc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e) (19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ming Paradig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ming paradigms are the fundamental styles used in programm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digms differ in the concepts and abstractions used to represent elements of a program and steps that compose a compu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BOL and FORTRAN among others, ar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al langua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meaning the programs are built from various functions or subroutines. These type of languages use vocabulary relative to the problem being s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posite of procedural programming 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larative programm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ere the computer is told what the problem is, not how to solve a problem.  Logic-based programming languages like Prolog are declarative in n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ming Paradig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programming paradig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erative programming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al with statements that alter a program s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data and methods of manipulating the data, are kept as a single unit called an object.  This prevents the data from being manipulated by anything other than the object’s metho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50s &amp; 6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e Hopp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06 –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computer scientist and US Naval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of the first programmers for the Harvar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k I compu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the first compiler for a programming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ualized and developed COBOL, one of the first modern programming langua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ized the term “debugging”, after removing an actual moth from a compu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erred to as “Amazing Grace” in the Nav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U.S. Naval Destroye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USS Hopp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named for h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GraceHopper.jpg"/>
          <p:cNvPicPr/>
          <p:nvPr/>
        </p:nvPicPr>
        <p:blipFill>
          <a:blip r:embed="rId1"/>
          <a:stretch/>
        </p:blipFill>
        <p:spPr>
          <a:xfrm>
            <a:off x="7391520" y="1523880"/>
            <a:ext cx="15732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Late 60s &amp; 7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programming languages began to bloom in the late 60s, introducing even more new languag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cal (197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lltalk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log (197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L (197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QL (197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time saw the introduction and debate of “structured programming”, which basically meant programming without the use of the GOTO stat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8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ocus on programming for large-scale system through us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guages Modula, Ada, and ML all developed notable module systems in the 8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s saw the movement towards RISC design in C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basically meant that hardware should be designed for compilers rather than for assembly program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8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t languages developed in the 1980s includ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 (198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++ (198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iffel (198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ang (198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l (198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90s saw the rise of RAD (Rapid Application Development) langu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 languages usually included an IDE, garbage collection, and were usually descended from older langua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RAD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Pa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Basic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# (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grams are Everywhere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comp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cellph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microw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r toa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some level, almost all electronic devices have some type of programming that tell the different components how to interact with one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t languages developed in this tim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skell (199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ython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by (199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a (199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Script (199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P (199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# (200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90s and Beyon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90s also saw the rising popularity of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scripting languag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cripting languages allow control of one or more software applic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s” are distinct from the core code of the main application, and can often be created or modified by the end-u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unlike other high-level programming languages, do not need to be compi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referred to as “batch languages” or “job control language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n web browsers are a goo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425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 example, Firefox is written in C/C++, and can be controlled via JavaScript and/or PHP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2000 and Beyo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volution continues!  Several new trends in this decade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taprogramm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writing of programs that write or manipulate other programs (or themselves) as thei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gration with relational databases and/or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(Extensible Markup Languag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mainstream support for Unicode vs. the ASCII character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Content Placeholder 3" descr="assembler.jpg"/>
          <p:cNvPicPr/>
          <p:nvPr/>
        </p:nvPicPr>
        <p:blipFill>
          <a:blip r:embed="rId1"/>
          <a:stretch/>
        </p:blipFill>
        <p:spPr>
          <a:xfrm>
            <a:off x="1428840" y="1919160"/>
            <a:ext cx="552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ir most basic, programs are simply functions, or a collection of various variable assignments and executions of simple math-type stat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id main(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print “Hello, world”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a simple “Hello world” program, that simply prints the message “Hello, world” to the scre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s expressed in most languages as &amp;&amp;, also called “logical conjunc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is expressed in most languages as ||, also called “logical disjunc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“ refers to assigning a value, while “==“ tests for e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some languages, “===“ signifies a test for equality in both value and data typ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=“ or “&lt;&gt;” means not equal, and most other numerical relational operators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example, “&lt;“, “&gt;”, “&gt;=“, “&lt;=“ all mean the same thing in programming as they do in mathema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ol Fl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various statements used in programs to control how the flow through a program is executed, known a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trol flow stat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rograms need keywords to indicate the type of control structure in use, to group various statem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…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ntation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Flow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ops are sequences of statements specified once, but carried out several times in succes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loop that calls itself in the course of its execution is said to be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cursiv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.  Poorly written recursive loops can lead to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finite loop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hich are bad (usually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32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imple recursive function: factorials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functio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factorial i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input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: integer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such that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&gt;= 0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output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: [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× 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1) × 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2) × … × 1]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1. if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is 0, 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retur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1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2. otherwise, 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retur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[ 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× factorial(</a:t>
            </a:r>
            <a:r>
              <a:rPr b="0" i="1" lang="en-US" sz="1300" spc="-1" strike="noStrike">
                <a:solidFill>
                  <a:srgbClr val="ffffff"/>
                </a:solidFill>
                <a:latin typeface="Lucida Console"/>
              </a:rPr>
              <a:t>n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-1) ] 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Lucida Console"/>
              </a:rPr>
              <a:t>end</a:t>
            </a:r>
            <a:r>
              <a:rPr b="0" lang="en-US" sz="1300" spc="-1" strike="noStrike">
                <a:solidFill>
                  <a:srgbClr val="ffffff"/>
                </a:solidFill>
                <a:latin typeface="Lucida Console"/>
              </a:rPr>
              <a:t> factoria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es of loop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nt 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x amount of times before proc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se use a loop counter to keep track of the number of times the loop has been execu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 most comm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ition 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ypes of loops repeat until a certain predefined condition has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-w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es of lo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ion-controlled loo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languages have constructs which allow looping through all elements of an array, or all members of a set or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languages allow for non-local control flow in the form of conditions and excep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Jacquard.jpg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27511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first” program actu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es the first modern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acquard Loom, in 1801, us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es punched in cards to represent the movement of the sewing loom 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Lovelace, in 1843, while translating Luigi Menabrea’s memoirs on Charles Babbage’s Analytical Engine, added a series of notes which detailed a method of calculating Bernoulli numbers with the Analytical En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real program written for a real computer is credited to Grace Hopper, written for the Harvard Mark I computer in 194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al statements perform specific actions and computations depending on whether or not a specified Boolean condition evaluates to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of the most common conditional statements.  While the syntax can vary from one language to the next, the basic structure remains the s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(condition) the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statements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statements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se If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an addition to If-Then-Else statements, allowing multiple conditions to be tested at o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rnary operato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work similar to If-Then-Else statements, but in a shorthand kind of 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dition) ? (TRUE statement) : (FALSE 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ditional stat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se/Switch statement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mpare a given value with specified constants and take action according to the first mat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 (someCharacter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a’: performActionA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b’: performActionB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se ‘c’: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efault : performActionC; break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fferent types of data can be manipulated in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 types provided are referred to as “primitive data types”, meaning they’re defined and provided by the programming language itself, as opposed to user defined data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oating point (decimal valu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47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loating point calculations in programming can be rather resource-intensive in some cas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r (single charact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Types continu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more data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ome languages, a Boolean data type exists.  Usually, it just an integer with a value of either 0 or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ome languages, strings can be treated as character arrays, and manipulated like arr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s, strings have special library-defined functions for handling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nalysis of a Progra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types continu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MORE data type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s are sets of values in a program that can be selected by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foo = (0, 2, 3, 4, 5, 2, 10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int foo[1]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yield the result of “2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working with arrays, it’s important to remember that counting begins with “0” in most langu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utting It All Togeth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imple program that prints out the numbers from 1 to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void main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int x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for(x = 1; x &lt; 11; x++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print x + “\n”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return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fere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met, Jean E. (1969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gramming Languages: History and Fundamental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Englewood Cliffs, NJ: Prentice-Hall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of Programming Languages.(n.d.). I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Retrieved November 2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09, from </a:t>
            </a:r>
            <a:r>
              <a:rPr b="0" lang="en-US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History_of_programming_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lerer, Melvin. (1991).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esign of Very High-Level Computer 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USA: McGraw-Hi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gin, Thomas J. &amp; Gibson, Richard G. (1996).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istory of Programming Languag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New York, NY: ACM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ffman, Elliot B. &amp; Friedman, Frank L. (1993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tran With Engineering Applications: 5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Edi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 Reading, MA: Addison-Wesley Publishing Compan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ari, Peggy. "Science And Invention - Who Wrote The First Computer Program?." 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istory Fact Find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Ed. Julie L. Carnagie. UXL-GALE, 2001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Notes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2006. 6 Dec, 2009 &lt;http://www.enotes.com/history-fact-finder/science-invention/who-wrote-first-computer-program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babbage.jpg"/>
          <p:cNvPicPr/>
          <p:nvPr/>
        </p:nvPicPr>
        <p:blipFill>
          <a:blip r:embed="rId1"/>
          <a:stretch/>
        </p:blipFill>
        <p:spPr>
          <a:xfrm>
            <a:off x="6818400" y="1752480"/>
            <a:ext cx="2147760" cy="2667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les Babba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791 – 18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mathematician, philosop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or, and mechanical engin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to originate the concept of a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rammable compu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ght a method to calculat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hematical tables mechanically t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 the high rate of human err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ived of and designed the Differenc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gine, then the Analytical Engine.  Neither were actually created in his lifetim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Difference Engine was built based upon his work, in 1991.  On display in the London Science Muse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a Lovelac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815 – 185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“first” program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legitimate child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 Lord By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claim to fame is ha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a description of Char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bage’s Analytical En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gramming language, Ad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for the United States Department of Defense, was named in her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da_lovelace.jpg"/>
          <p:cNvPicPr/>
          <p:nvPr/>
        </p:nvPicPr>
        <p:blipFill>
          <a:blip r:embed="rId1"/>
          <a:stretch/>
        </p:blipFill>
        <p:spPr>
          <a:xfrm>
            <a:off x="6400800" y="1447920"/>
            <a:ext cx="2540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an Turing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912 – 195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lish mathematician, logician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analyst, and computer scienti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fathers of computer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a formalization of the concep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lgorithm and computation with the Turing mach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 up with the “Turing Test”, a proposal for a test of artificial intelligence in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alan_turing.jpg"/>
          <p:cNvPicPr/>
          <p:nvPr/>
        </p:nvPicPr>
        <p:blipFill>
          <a:blip r:embed="rId1"/>
          <a:stretch/>
        </p:blipFill>
        <p:spPr>
          <a:xfrm>
            <a:off x="6858000" y="1295280"/>
            <a:ext cx="2098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herman_hollerith.jpg"/>
          <p:cNvPicPr/>
          <p:nvPr/>
        </p:nvPicPr>
        <p:blipFill>
          <a:blip r:embed="rId1"/>
          <a:stretch/>
        </p:blipFill>
        <p:spPr>
          <a:xfrm>
            <a:off x="6858000" y="1600200"/>
            <a:ext cx="2143080" cy="30862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Before 1940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man Holleri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860 – 19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-American statistic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a mechanical tabulator t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pidly tabulate data from millions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nch car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s electric tabulating system was us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abulate the 1890 census in only on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s firm, along with four other companies, merged to form the Computing Tabulating Recording Corporation, which was later renamed to International Business Machines (IB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A History of Programming: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1940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940s saw the rise of the first recognizably modern, electrically powered compu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arly computers required hand tuned assembly language programs to r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NIAC (Electronic Numerical Integrator And Computer) was the first general-purpose electronic computer, in 194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languages developed at this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nkalkül (194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IAC coding system (194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-10 (194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ypes of Programming Languag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ing languages can be broken down into three general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chine langu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set of instructions and data directly read by a CPU.  High and low level languages are interpreted into machine language for computers to 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w-level langua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fer little or no abstraction from a computer’s instruction set archite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gh-level langua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trong abstraction from the details of the computer, some even including natural language elements.  Meant to be more user-friendly and easier to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4:08:51Z</dcterms:created>
  <dc:creator>Eddie Fuller</dc:creator>
  <dc:description/>
  <dc:language>en-US</dc:language>
  <cp:lastModifiedBy>Eddie Fuller</cp:lastModifiedBy>
  <dcterms:modified xsi:type="dcterms:W3CDTF">2009-12-09T02:46:30Z</dcterms:modified>
  <cp:revision>174</cp:revision>
  <dc:subject/>
  <dc:title>The History &amp; Evolution of Computer Programming</dc:title>
</cp:coreProperties>
</file>